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2B6D-52ED-4A0B-8264-611388C55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17C8-EAD7-4E12-9FA7-9B03CDFCD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0019-AA00-46C5-86F7-FBD3B07FF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82EF-B366-47F8-9F74-2BD1F6D0E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C64F-C467-4933-933F-98E12582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AC14-ABEB-44EF-AB7E-18FF44F20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C87E-3823-462A-AD09-C0086FD86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661C-60A0-4799-85F0-2126C1191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DB47-2020-4A02-A283-1725B16DC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34B2-A7F9-4DD5-80E8-7710D47E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EAE1-3DF2-4302-88CD-667B9E4C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5EC9-7A97-4401-BF4C-95DB8E2EE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30B7C-4381-432F-BDAA-412A835932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429000"/>
            <a:ext cx="809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33cc"/>
                </a:solidFill>
                <a:latin typeface="Times New Roman"/>
              </a:rPr>
              <a:t>First  Aid Right And Wrong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364480" y="2057400"/>
            <a:ext cx="386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Times New Roman"/>
              </a:rPr>
              <a:t>Integrating skill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30760" y="304920"/>
            <a:ext cx="862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 the following descriptions of accidents on page 14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 decide what the  rescuers did wr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8600" y="1523880"/>
          <a:ext cx="8381520" cy="4952880"/>
        </p:xfrm>
        <a:graphic>
          <a:graphicData uri="http://schemas.openxmlformats.org/drawingml/2006/table">
            <a:tbl>
              <a:tblPr/>
              <a:tblGrid>
                <a:gridCol w="4190400"/>
                <a:gridCol w="419112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did wro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2360" y="304920"/>
            <a:ext cx="751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Use what you have learned about first aid to lis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they should have d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80880" y="1447920"/>
          <a:ext cx="8381880" cy="5181120"/>
        </p:xfrm>
        <a:graphic>
          <a:graphicData uri="http://schemas.openxmlformats.org/drawingml/2006/table">
            <a:tbl>
              <a:tblPr/>
              <a:tblGrid>
                <a:gridCol w="4190760"/>
                <a:gridCol w="4191120"/>
              </a:tblGrid>
              <a:tr h="12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at they should have d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r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kating accid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tel f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7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son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efec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973240" y="1295280"/>
            <a:ext cx="1953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33cc"/>
                </a:solidFill>
                <a:latin typeface="Times New Roman"/>
              </a:rPr>
              <a:t>Wri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96280" y="2743200"/>
            <a:ext cx="8599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ose one of the situations in the reading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rite a description. In the new description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rescuer should give first aid in the right w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00:59:38Z</dcterms:created>
  <dc:creator>kkasfjoirfe</dc:creator>
  <dc:description/>
  <dc:language>en-US</dc:language>
  <cp:lastModifiedBy>kkasfjoirfe</cp:lastModifiedBy>
  <dcterms:modified xsi:type="dcterms:W3CDTF">2004-07-18T03:02:30Z</dcterms:modified>
  <cp:revision>5</cp:revision>
  <dc:subject/>
  <dc:title>PowerPoint 演示文稿</dc:title>
</cp:coreProperties>
</file>